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8E9-4DDB-45E5-9873-5067E7CF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4E2-B021-48D7-9AB0-45E6D9A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A73-FE1A-4171-93E2-8DB17100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2D2-9072-4371-9DB2-3C5C9249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77E-03A3-4FA2-A4EB-07A4F05E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D2C-1947-45E6-BE33-DF0184E1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56D-6FAD-4C7E-BBEC-3CB9F0B3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5B9-B8D8-4EEF-851C-D68E3193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6F1-E6EB-4E5C-A079-80BE5822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DDF-8245-4B5C-8589-962D3C9B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ABD-2B7E-46A5-8CFF-F89F9D5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F17-B09E-4320-883F-EB6A071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AAE1-9BCD-4B47-93CD-3240901FB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611280" y="404640"/>
            <a:ext cx="7993080" cy="59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1"/>
          <p:cNvSpPr/>
          <p:nvPr/>
        </p:nvSpPr>
        <p:spPr>
          <a:xfrm>
            <a:off x="755640" y="1484280"/>
            <a:ext cx="770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Могилевская область.</a:t>
            </a:r>
            <a:br>
              <a:rPr sz="3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Информация по объектам, находящимся в собственности Могилевской области и ее административно-территориальных единиц не проданным на аукционах с понижением начальной цены продажи на 80 процентов, в отношении которых принято решение о нецелесообразности  выставления на аукцион с установлением начальной цены продажи, равной одной базовой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отношении указанных объектов возможно рассмотрение вопроса их предоставления заинтересованным лицам путем продажи на аукционе, сдачи в аренду, передачи в безвозмездное пользование, передачи под реализацию инвестиционного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дание начальной школы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собственность Круглянского рай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571760" y="1285920"/>
            <a:ext cx="5905440" cy="44276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21420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д постройки –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лощадь капитальных строений – 548,9 кв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лощадь земельного участка –  0,5588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4500720" y="592920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Times New Roman"/>
              </a:rPr>
              <a:t>Круглянский рай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Times New Roman"/>
              </a:rPr>
              <a:t>дер. Дудакови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дание детского сада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собственность Чаусского рай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528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д постройки – 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лощадь капитальных строений – 133,3 кв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лощадь земельного участка –  0,1137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429160" y="5429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Times New Roman"/>
              </a:rPr>
              <a:t>Чаусский рай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Times New Roman"/>
              </a:rPr>
              <a:t>дер. Барышев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Times New Roman"/>
              </a:rPr>
              <a:t>ул. Школьная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15644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 зданий, сооружений больницы сестринского ухода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дание котельной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собственность Чаусского рай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478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д постройки – 1957,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лощадь капитальных строений – 871,8 кв.м и 60,3 кв.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лощадь земельного участка –  1,4877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4790880" cy="2700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457200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Times New Roman"/>
              </a:rPr>
              <a:t>Чаусский рай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Times New Roman"/>
              </a:rPr>
              <a:t>аг. Горбович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Times New Roman"/>
              </a:rPr>
              <a:t>ул. Центральная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5572080" y="2214720"/>
            <a:ext cx="3259080" cy="183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8:32:11Z</dcterms:created>
  <dc:creator>USER</dc:creator>
  <dc:description/>
  <dc:language>en-US</dc:language>
  <cp:lastModifiedBy>kazuseva</cp:lastModifiedBy>
  <dcterms:modified xsi:type="dcterms:W3CDTF">2019-01-23T14:18:21Z</dcterms:modified>
  <cp:revision>679</cp:revision>
  <dc:subject/>
  <dc:title>Неиспользуемые объекты, предлагаемые в аренду для размещения подразделений  ОАО «Белагропромбанк»</dc:title>
</cp:coreProperties>
</file>