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B43-6E8E-4DA7-80DF-18EB3974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747-5A34-4B8E-B000-ACE0FA38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DDA-78F1-4585-8B4B-FCD962E5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E90-AB41-44F4-B2AD-39491FAD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BC1-88C2-4D08-BC3D-B15B6B87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A90-E2DD-4D7B-AB01-3475F008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1E8-1786-4827-8740-FD21047D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064-ECE8-4D88-93F7-F0ADCC17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28D-4FF2-40B5-BD3D-52F3D78E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ED2-BBC6-4E40-BE22-6BEDF53C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9FC-74DB-43CF-9065-EAFF2BE9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E7A-FE37-4E45-A4D2-C7A8C34D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33A9-DCA5-4EF6-998D-C306D5693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755640" y="1484280"/>
            <a:ext cx="770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О способах вовлечения в хозяйственный оборот неиспользуемого имущества, находящегося в собственности Республики Беларусь, в 2020 год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спубликанское дочернее сельскохозяйственое унитарное предприятие  «Белоруснефть-Особино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итальное строение (здание автозаправочной станции № 33)</a:t>
            </a:r>
            <a:endParaRPr b="0" lang="en-US" sz="1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-286200" y="4285800"/>
            <a:ext cx="840132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4d4d4d"/>
                </a:solidFill>
                <a:latin typeface="Times New Roman"/>
              </a:rPr>
              <a:t>г. Бобруйск, </a:t>
            </a:r>
            <a:br>
              <a:rPr sz="1800"/>
            </a:br>
            <a:r>
              <a:rPr b="1" lang="ru-RU" sz="1800" spc="-1" strike="noStrike">
                <a:solidFill>
                  <a:srgbClr val="4d4d4d"/>
                </a:solidFill>
                <a:latin typeface="Times New Roman"/>
              </a:rPr>
              <a:t>ул. Урицкого, 6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616720" cy="41637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214200" y="59292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ощадь капитального строения –  26 к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ощадь земельного участка –  0,1009 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4786200" y="578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Предложение по использованию - отчуждение на аукци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реждение «Могилевское областное управление Министерства по чрезвычайным ситуациям Республики Беларус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Здание пожарного деп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219640" y="5950080"/>
            <a:ext cx="37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d4d4d"/>
                </a:solidFill>
                <a:latin typeface="Times New Roman"/>
              </a:rPr>
              <a:t>Климовичский р-н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d4d4d"/>
                </a:solidFill>
                <a:latin typeface="Times New Roman"/>
              </a:rPr>
              <a:t>Галичский сельсовет, дер. Галичи, </a:t>
            </a:r>
            <a:br>
              <a:rPr sz="1500"/>
            </a:br>
            <a:r>
              <a:rPr b="1" lang="ru-RU" sz="1500" spc="-1" strike="noStrike">
                <a:solidFill>
                  <a:srgbClr val="4d4d4d"/>
                </a:solidFill>
                <a:latin typeface="Times New Roman"/>
              </a:rPr>
              <a:t>ул. Школьная, 11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5076720" y="39337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Предложение по использованию - отчуждение на аукци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258920" y="4545000"/>
            <a:ext cx="2928960" cy="219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527280" cy="26463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4357800" y="50007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ощадь капитального строения  –125,1 к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ощадь земельного участка –  0,1706 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55640" y="189000"/>
            <a:ext cx="7991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гилевское торгово-производственное республиканское унитарное предприятие «Фарма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Капитальное строение (аптека № 83, одноэтажное бревенчатое строен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724360" y="5877000"/>
            <a:ext cx="3276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d4d4d"/>
                </a:solidFill>
                <a:latin typeface="Times New Roman"/>
              </a:rPr>
              <a:t>Осиповичский район, Свислочский сельсовет, аг. Свислочь, </a:t>
            </a:r>
            <a:br>
              <a:rPr sz="1500"/>
            </a:br>
            <a:r>
              <a:rPr b="1" lang="ru-RU" sz="1500" spc="-1" strike="noStrike">
                <a:solidFill>
                  <a:srgbClr val="4d4d4d"/>
                </a:solidFill>
                <a:latin typeface="Times New Roman"/>
              </a:rPr>
              <a:t>ул. Клименко, 4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214200" y="5214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Предложение по использованию - отчуждение на аукци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395280" y="60278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ощадь капитального строения  –155,7 к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ощадь земельного участка –  0,1215 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928880" y="1214280"/>
            <a:ext cx="5327640" cy="399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55640" y="189000"/>
            <a:ext cx="7991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гилевское торгово-производственное республиканское унитарное предприятие «Фарма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Капитальное строение (здание аптек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724360" y="5877000"/>
            <a:ext cx="3276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d4d4d"/>
                </a:solidFill>
                <a:latin typeface="Times New Roman"/>
              </a:rPr>
              <a:t>Кличевский район, Бацевичский сельсовет, аг. Бацевичи, </a:t>
            </a:r>
            <a:br>
              <a:rPr sz="1500"/>
            </a:br>
            <a:r>
              <a:rPr b="1" lang="ru-RU" sz="1500" spc="-1" strike="noStrike">
                <a:solidFill>
                  <a:srgbClr val="4d4d4d"/>
                </a:solidFill>
                <a:latin typeface="Times New Roman"/>
              </a:rPr>
              <a:t>ул. Ленинская, 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214200" y="5214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Предложение по использованию - отчуждение на аукци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395280" y="60278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ощадь капитального строения  –81,8 к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ощадь земельного участка –  0,0552 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0160" y="1071720"/>
            <a:ext cx="5651640" cy="423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8:32:11Z</dcterms:created>
  <dc:creator>USER</dc:creator>
  <dc:description/>
  <dc:language>en-US</dc:language>
  <cp:lastModifiedBy>Радькова Галина Дмитриевна</cp:lastModifiedBy>
  <dcterms:modified xsi:type="dcterms:W3CDTF">2020-07-09T09:36:44Z</dcterms:modified>
  <cp:revision>766</cp:revision>
  <dc:subject/>
  <dc:title>Неиспользуемые объекты, предлагаемые в аренду для размещения подразделений  ОАО «Белагропромбанк»</dc:title>
</cp:coreProperties>
</file>